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7B7E-60FB-456B-8EC8-B8E1C3FC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192-DF68-4F8D-8ABB-0CFDAAD2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E05-BC21-47B7-B523-6048C33A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3CB-BFEC-496D-9747-FB485C49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D8B-6559-4C6A-8E21-C8F003B7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1FC-5DFE-4F8E-97C3-522BFAA1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D645-2340-43B3-AFFC-75466175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1C5-5510-4EAB-973A-BB54187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3E6-63D2-495A-9128-FEB6BA50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1281-9BDB-4EE3-970F-89BE563F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0AA8-8B9C-4BE4-9B9A-8B266DED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8F39-7995-4FE7-ABEF-24F9A87F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E49-00AF-469F-97AE-B3F0A6F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AC1-5F3E-46B1-B475-88C9CCE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B82D-2472-4027-877D-6ED17E1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F6C3-3313-48C4-99F9-485EBB7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1D60-6354-41DA-A4C0-1300CDB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5BDF-7F36-4A39-B79B-282305E6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5FAB-2336-4394-99FD-514219C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56B-52C0-4F11-8F9F-36627734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1FD-C7CD-421C-9C57-586F75C7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4A2-1ADD-489E-8D39-55E34FB8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E7F-85F3-4A03-BA1F-7C77BF08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BD7-E15A-49B2-8CEA-427A9C4C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C2D-FD6F-448B-8677-6BEE332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1BA-CC06-42A8-8776-9FFAD0EC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C1CE-7753-41CF-8D54-B7AB317A7E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C115-F68C-4F03-8C99-4A3FBAEF0D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-26.05.2017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5-26.05.2017 г.                    г. Сочи ст. ФГУП «ЮГ СПОРТ»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г. Адлер ст. «Юность»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24332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антин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лавская Ма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йяр 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алья Шу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ентина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ина Каба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тай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.В.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7-05-25T16:35:25Z</cp:lastPrinted>
  <dcterms:modified xsi:type="dcterms:W3CDTF">2017-05-25T17:24:41Z</dcterms:modified>
  <cp:revision>4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